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8314-C424-41FF-BAA2-D4F786D4D8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B3AF-00E7-4386-952C-A277806B51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CEE3-47AB-4A16-8772-D60D77D5C9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484200" y="263520"/>
            <a:ext cx="6080040" cy="4560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200"/>
            <a:ext cx="50151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3F5-4B05-4EFB-A9CE-5DC9B674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4D9-BBBA-43CD-977C-224AED4B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8D4-2C50-4003-A0B1-867F102F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328-14B3-41F5-BBD9-ADFF9D15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D71-F5CB-46F0-95AF-DCF9BCD4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331-04A1-4911-A465-2B93CE57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8EC-9360-48AB-8D3A-4DD73A9A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C12-DE09-4650-938D-72022085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A69-3EA4-4E80-A897-88077313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601-DE22-4E41-BCE6-543FFCA1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E37-15AF-4C59-A7E6-6AF2D371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E74-714F-455F-AFA0-2642A7A4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AE84-AE6B-4773-A265-A1FB97A93425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87C5-DE0B-43F7-92E2-6791A3657378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abelcambeiro@gmail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Arial Black"/>
              </a:rPr>
              <a:t>CONSEJO PROFESIONAL DE CIENCIAS ECONOMICAS DE LA C.A.B.A.</a:t>
            </a:r>
            <a:br>
              <a:rPr sz="2900"/>
            </a:br>
            <a:r>
              <a:rPr b="1" lang="es-ES_tradnl" sz="2900" spc="-1" strike="noStrike">
                <a:solidFill>
                  <a:srgbClr val="000000"/>
                </a:solidFill>
                <a:latin typeface="Arial Black"/>
              </a:rPr>
              <a:t>30 DE AGOSTO DE 201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644640"/>
            <a:ext cx="651528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98989"/>
                </a:solidFill>
                <a:latin typeface="Calibri"/>
              </a:rPr>
              <a:t>COOPERATIVAS Y MUT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98989"/>
                </a:solidFill>
                <a:latin typeface="Calibri"/>
              </a:rPr>
              <a:t>ACTUALIDAD NORMA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8A5B-F0F1-4AEF-A032-9A50EB38FB67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250920" y="3429000"/>
            <a:ext cx="1433520" cy="2763360"/>
            <a:chOff x="250920" y="3429000"/>
            <a:chExt cx="1433520" cy="2763360"/>
          </a:xfrm>
        </p:grpSpPr>
        <p:sp>
          <p:nvSpPr>
            <p:cNvPr id="53" name="Text Box 6"/>
            <p:cNvSpPr/>
            <p:nvPr/>
          </p:nvSpPr>
          <p:spPr>
            <a:xfrm>
              <a:off x="322200" y="3429000"/>
              <a:ext cx="136188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Por favor, apague o ponga en silencio el celular dentro del salón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" descr="BD04922_"/>
            <p:cNvPicPr/>
            <p:nvPr/>
          </p:nvPicPr>
          <p:blipFill>
            <a:blip r:embed="rId2"/>
            <a:stretch/>
          </p:blipFill>
          <p:spPr>
            <a:xfrm>
              <a:off x="322200" y="4395960"/>
              <a:ext cx="1361880" cy="17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8"/>
            <p:cNvSpPr/>
            <p:nvPr/>
          </p:nvSpPr>
          <p:spPr>
            <a:xfrm flipV="1">
              <a:off x="322200" y="4395960"/>
              <a:ext cx="1290240" cy="1727280"/>
            </a:xfrm>
            <a:prstGeom prst="line">
              <a:avLst/>
            </a:prstGeom>
            <a:ln cap="sq"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250920" y="4395960"/>
              <a:ext cx="1433520" cy="1796400"/>
            </a:xfrm>
            <a:prstGeom prst="line">
              <a:avLst/>
            </a:prstGeom>
            <a:ln cap="sq"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OLITICAS DE PREVENC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) Elaboración de un manual que contendrá mecanismos y procedimientos para la prevención del Lavado de Activos y Financiación del Terrorism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) Designación de un Oficial de Cumplimie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1" lang="es-ES" sz="2800" spc="-1" strike="noStrike">
                <a:solidFill>
                  <a:srgbClr val="7030a0"/>
                </a:solidFill>
                <a:latin typeface="Calibri"/>
              </a:rPr>
              <a:t>Capacitación del person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) Elaboración de un registro escrito del análisis y gestión del riesgo de las operaciones sospechos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67CF-BCAF-466D-BFCF-C7CB286C5B89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OLITICAS DE PREVENC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) Implementación de herramientas tecnológicas acordes con el desarrollo operacional del Sujeto Oblig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) Medidas que permitan consolidar electrónicamente las operaciones que se realizan con sus donantes o aportantes y analizar variables para predecir los comportamientos y visualizar posibles operaciones sospechos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F88C-767A-427D-AF41-A1DD895E5F91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CAPACITACION DEL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EL ROL DEL PERSONAL ES DE SUSTANCIAL IMPORTA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IMPLEMENTA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UN SISTEMA DE CAPACIT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DEFINIR LAS FUNCIONES DE CADA EMPLE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GIMEN SANCIONATORIO DEL PERS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C15D-B965-4223-9AB7-DFF8B96F1B67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CAPACITAC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L OFICIAL DE CUMPLIMIENTO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PREPARARA UN PLAN ANUAL   DETALLANDO LOS CURSOS 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SERAN IMPARTID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S EL ENCARGADO DE OBSERVAR 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IMPLEMENTAR LOS PROCEDIMIENTO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DE CONTROL INTERNO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-  AUDITOR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50EC-552B-4761-A770-E16D25D2CB57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GIMEN SANCIONATO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l empleado al ingresar a la empresa tomará conocimiento, comprensión y compromiso respecto del Manual de Procedimientos de Prevención de Lavado de Activos, debiendo quedar nota firmada por el mismo y archivada en su legaj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Graduación de san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Recurso a favor del emple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515E-570B-4469-9124-3820B1C13CF8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E1FA-0625-4B42-AE58-B03B115DFB1C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58560" y="1599840"/>
            <a:ext cx="67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s-AR" sz="24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mabelcambeiro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BFA9-5A1C-45D6-B80F-129B28AA7598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743040" y="1430280"/>
            <a:ext cx="76960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 Narrow"/>
              </a:rPr>
              <a:t>Introducción a la problemática del lavado de activ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143680" y="417204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83960" y="1518840"/>
            <a:ext cx="867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_tradnl" sz="4000" spc="-1" strike="noStrike">
                <a:solidFill>
                  <a:srgbClr val="000000"/>
                </a:solidFill>
                <a:latin typeface="Calibri"/>
              </a:rPr>
              <a:t>Es el proceso por el cual los activos de origen delictivo se integran al sistema legal c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_tradnl" sz="4000" spc="-1" strike="noStrike">
                <a:solidFill>
                  <a:srgbClr val="000000"/>
                </a:solidFill>
                <a:latin typeface="Calibri"/>
              </a:rPr>
              <a:t>apariencia de ser obtenidos de forma lícita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4443-1C12-43D3-B304-8A314A8AF318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quisitos form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ey 25.246: crea la UIF, prevención de delitos de lavado de activos, tráfico y comercialización ilícita de estupefacientes, delitos de contrabando de armas, asociación ilícita terrorista, delitos cometidos por asociaciones ilícitas para cometer delitos con fines políticos o raciales, fraudes contra la Administración Pública, delitos de prostitución de menores y pornografía infantil, financiación del terrorismo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ontadores        agentes de información de la UI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4DA9-7558-4AFD-AF3B-D43A87926863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2556000" y="4508640"/>
            <a:ext cx="431640" cy="504720"/>
          </a:xfrm>
          <a:prstGeom prst="rightArrow">
            <a:avLst>
              <a:gd name="adj1" fmla="val 50000"/>
              <a:gd name="adj2" fmla="val 37361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SOLUCION 30/2011 U.I.F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stablece medidas y procedimientos  que las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Personas Jurídicas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que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ciban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AR" sz="3200" spc="-1" strike="noStrike">
                <a:solidFill>
                  <a:srgbClr val="ff0000"/>
                </a:solidFill>
                <a:latin typeface="Calibri"/>
              </a:rPr>
              <a:t>Donaciones o Aportes de Terceros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, deberán observar para prevenir, detectar y reportar los hechos, actos, omisiones u operaciones que puedan provenir o estar vinculadas a la comisión de los delitos de lavado de activos y financiación del terrorism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73C0-E391-425B-80CB-93D4AEBD7655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EY 25.24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T. 20 inc. 15: incorpora al </a:t>
            </a:r>
            <a:r>
              <a:rPr b="0" lang="es-ES" sz="3200" spc="-1" strike="noStrike">
                <a:solidFill>
                  <a:srgbClr val="7030a0"/>
                </a:solidFill>
                <a:latin typeface="Calibri"/>
              </a:rPr>
              <a:t>I.N.A.E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T. 20 inc. 20: Las </a:t>
            </a:r>
            <a:r>
              <a:rPr b="1" lang="es-ES" sz="3200" spc="-1" strike="noStrike">
                <a:solidFill>
                  <a:srgbClr val="7030a0"/>
                </a:solidFill>
                <a:latin typeface="Calibri"/>
              </a:rPr>
              <a:t>asociaciones mutuales y cooperativa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reguladas por las leyes 20.331 y 20.337 respectivam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C810-D851-4FD1-AE3E-5B80502A81C1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DEFINICIONES 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SUJETOS OBLIG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PERSONAS EXPUESTAS POLITICAM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REPORTES SISTEMAT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PROPIETARIO/BENEFICI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2363-7BE7-4076-8501-7515CDA6811D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PERACIONES INUSU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Son aquellas operaciones tentadas o realizadas en forma aislada o reiterada, sin justificación económica y/o jurídica, que no guardan relación con el perfil económico-financiero del cliente, desviándose de los usos y costumbres en las prácticas de mercado, ya sea por su frecuencia, habitualidad, monto, complejidad, naturaleza y/o características particulares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B5A5-4370-4E4B-BB73-AA70034E2CBA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PERACIONES SOSPECHOS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Son aquellas operaciones tentadas o realizadas que, habiéndose identificado previamente como inusuales, luego del análisis y evaluación realizados por el Sujeto Obligado, las mismas no guardan relación con las actividades licitas declaradas por el cliente, ocasionando sospecha de Lavado de Activos o aun tratándose de operaciones relacionadas con actividades licita, exista sospecha de que estén vinculadas o que vayan a ser utilizadas para la Financiación del Terrorism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306A-4564-4316-A5AF-411012A40580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P Mabel B. Cambeiro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8:04:30Z</dcterms:created>
  <dc:creator>diloretom</dc:creator>
  <dc:description/>
  <dc:language>en-US</dc:language>
  <cp:lastModifiedBy>olopez</cp:lastModifiedBy>
  <dcterms:modified xsi:type="dcterms:W3CDTF">2011-09-13T20:26:36Z</dcterms:modified>
  <cp:revision>78</cp:revision>
  <dc:subject/>
  <dc:title>PLAN  Y MANUAL DE CUENTAS</dc:title>
</cp:coreProperties>
</file>